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66A-1C27-44C1-AC2F-06D291A7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6F3-FE3D-4F90-871D-CD49C2DB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382-C638-4AAF-9DC7-046AC18D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589-830E-4DD6-BB47-B4EB6D9A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DC1-06AB-45E6-B6B9-94FAD6E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98D-CAAC-45A1-B556-4C56C46D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3FD-E87C-4014-940A-86CFB58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897-A666-44FE-9EBC-493896C3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5B9-D926-40DA-BDD0-264A33AF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42D-CCDD-4779-8CEB-C50D0B0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8DF-A9B9-456C-9FB2-9A94336D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E10-400F-45B8-92F3-F2C469F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355F-C843-4517-95DF-BD96759F9A8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59280" y="1628640"/>
            <a:ext cx="3189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mp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solar_tent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79280" y="333360"/>
            <a:ext cx="1944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tent. Its used to give you shelter when you are camping out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re are all sorts of shapes and sizes of 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100_3328_1aw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0" y="1125360"/>
            <a:ext cx="212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ravan. These are towed by cars they are normally small but sometimes they can be very big. Inside of them they have things that a house would have but sma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campfire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324000" y="404640"/>
            <a:ext cx="136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mp fire it’s a great thing to have while you are camping because they keep you warm at night and you can cook things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lick to zoom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250920" y="692280"/>
            <a:ext cx="144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sleeping bag they keep you warm and they are just like a Donna but they wrap around your whole body they are great for c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96840" y="30240"/>
            <a:ext cx="9247320" cy="1847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14200" y="1857240"/>
            <a:ext cx="857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Bradley Hand ITC"/>
              </a:rPr>
              <a:t>All these things help to keep you safe when you are camping and help the environment which helps everyon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0:03:22Z</dcterms:created>
  <dc:creator>student</dc:creator>
  <dc:description/>
  <dc:language>en-US</dc:language>
  <cp:lastModifiedBy> </cp:lastModifiedBy>
  <dcterms:modified xsi:type="dcterms:W3CDTF">2010-06-10T02:37:08Z</dcterms:modified>
  <cp:revision>3</cp:revision>
  <dc:subject/>
  <dc:title>Slide 1</dc:title>
</cp:coreProperties>
</file>