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F5F8-4C19-447E-B5FA-04D58ED43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8B9A-5356-4CFF-894A-BEA1AA82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B6F8-ABB5-4661-8F8D-789DB9106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4F8C-0D75-4493-A3FE-0C87D656E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2268-E3CC-4CFE-AE23-64E4E450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1DB1-E2E9-4ABD-8704-5EE61F0A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3F9D-9D08-4F18-82F6-131D0458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8400-1A37-4341-8113-1464B088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6DB5-03EB-421E-BF2A-5692E18B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C678-EA7E-46AE-9418-4CD6F199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A3A6-D99F-4616-B49D-B8E4A311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6874-C1B7-4FF0-B274-07DB4C2D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D882-9547-44DA-ADD5-B0E1713C50EE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059280" y="1628640"/>
            <a:ext cx="3189240" cy="18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amping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solar_tent"/>
          <p:cNvPicPr/>
          <p:nvPr/>
        </p:nvPicPr>
        <p:blipFill>
          <a:blip r:embed="rId1"/>
          <a:stretch/>
        </p:blipFill>
        <p:spPr>
          <a:xfrm>
            <a:off x="2411280" y="0"/>
            <a:ext cx="67327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179280" y="333360"/>
            <a:ext cx="19447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his is a tent. Its used to give you shelter when you are camping outs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here are all sorts of shapes and sizes of 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9" descr="100_3328_1aw"/>
          <p:cNvPicPr/>
          <p:nvPr/>
        </p:nvPicPr>
        <p:blipFill>
          <a:blip r:embed="rId1"/>
          <a:stretch/>
        </p:blipFill>
        <p:spPr>
          <a:xfrm>
            <a:off x="2124000" y="0"/>
            <a:ext cx="7020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0" y="1125360"/>
            <a:ext cx="212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his is a caravan. These are towed by cars they are normally small but sometimes they can be very big. Inside of them they have things that a house would have but small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campfire"/>
          <p:cNvPicPr/>
          <p:nvPr/>
        </p:nvPicPr>
        <p:blipFill>
          <a:blip r:embed="rId1"/>
          <a:stretch/>
        </p:blipFill>
        <p:spPr>
          <a:xfrm>
            <a:off x="1908000" y="0"/>
            <a:ext cx="7236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8"/>
          <p:cNvSpPr/>
          <p:nvPr/>
        </p:nvSpPr>
        <p:spPr>
          <a:xfrm>
            <a:off x="324000" y="404640"/>
            <a:ext cx="1368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his is a camp fire it’s a great thing to have while you are camping because they keep you warm at night and you can cook things on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lick to zoom"/>
          <p:cNvPicPr/>
          <p:nvPr/>
        </p:nvPicPr>
        <p:blipFill>
          <a:blip r:embed="rId1"/>
          <a:stretch/>
        </p:blipFill>
        <p:spPr>
          <a:xfrm>
            <a:off x="1835280" y="0"/>
            <a:ext cx="73087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9"/>
          <p:cNvSpPr/>
          <p:nvPr/>
        </p:nvSpPr>
        <p:spPr>
          <a:xfrm>
            <a:off x="250920" y="692280"/>
            <a:ext cx="1441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his is a sleeping bag they keep you warm and they are just like a Donna but they wrap around your whole body they are great for cam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ctangle 1" descr=""/>
          <p:cNvPicPr/>
          <p:nvPr/>
        </p:nvPicPr>
        <p:blipFill>
          <a:blip r:embed="rId1"/>
          <a:stretch/>
        </p:blipFill>
        <p:spPr>
          <a:xfrm>
            <a:off x="-96840" y="30240"/>
            <a:ext cx="9247320" cy="184788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214200" y="1857240"/>
            <a:ext cx="8572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000000"/>
                </a:solidFill>
                <a:latin typeface="Bradley Hand ITC"/>
              </a:rPr>
              <a:t>All these things help to keep you safe when you are camping and help the environment which helps everyone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00:03:22Z</dcterms:created>
  <dc:creator>student</dc:creator>
  <dc:description/>
  <dc:language>en-US</dc:language>
  <cp:lastModifiedBy> </cp:lastModifiedBy>
  <dcterms:modified xsi:type="dcterms:W3CDTF">2010-06-10T02:37:08Z</dcterms:modified>
  <cp:revision>3</cp:revision>
  <dc:subject/>
  <dc:title>Slide 1</dc:title>
</cp:coreProperties>
</file>