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A0E-A40E-4D93-9DF2-DEBDB76C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322-E3B6-4B04-8C89-7348A37B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716-07C2-42A5-B402-5242205A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09D-A56B-4A0D-9301-F1C5DEB0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64F-233C-4C6F-BE3E-DC13EAD5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6CA-C8C8-40EE-8D6F-DD960838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6D8-5A48-451A-8C5B-B722D6FD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0FC-D64B-466B-A6CF-6B510F70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0F1-E219-4E5F-9BB0-2D0949BF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29A-B4CE-4704-A491-0CEB7C3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1D0-E4B3-4C49-9D0C-844E9249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535-D179-49F8-A2F4-85C4BD92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B7EE-4051-4CBD-A9C0-E0BADA945D2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59280" y="1628640"/>
            <a:ext cx="31892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mp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solar_tent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79280" y="333360"/>
            <a:ext cx="1944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tent. Its used to give you shelter when you are camping out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ere are all sorts of shapes and sizes of 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100_3328_1aw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0" y="1125360"/>
            <a:ext cx="212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ravan. These are towed by cars they are normally small but sometimes they can be very big. Inside of them they have things that a house would have but sma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campfire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324000" y="404640"/>
            <a:ext cx="136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mp fire it’s a great thing to have while you are camping because they keep you warm at night and you can cook things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lick to zoom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250920" y="692280"/>
            <a:ext cx="144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sleeping bag they keep you warm and they are just like a Donna but they wrap around your whole body they are great for c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96840" y="30240"/>
            <a:ext cx="9247320" cy="1847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14200" y="1857240"/>
            <a:ext cx="857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Bradley Hand ITC"/>
              </a:rPr>
              <a:t>All these things help to keep you safe when you are camping and help the environment which helps everyon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0:03:22Z</dcterms:created>
  <dc:creator>student</dc:creator>
  <dc:description/>
  <dc:language>en-US</dc:language>
  <cp:lastModifiedBy> </cp:lastModifiedBy>
  <dcterms:modified xsi:type="dcterms:W3CDTF">2010-06-10T02:37:08Z</dcterms:modified>
  <cp:revision>3</cp:revision>
  <dc:subject/>
  <dc:title>Slide 1</dc:title>
</cp:coreProperties>
</file>