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5ED-85BB-4E56-A318-63996A17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F62-71D5-4F64-9CD9-8DB3F2BF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E31-746F-4430-8CB2-FF95E22B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886-5C13-41DC-8D86-509316FA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412-F519-4B49-921C-EB3C09B7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A84-8EE2-48AD-9E9C-98C8E0E7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538-BDDA-45B7-AB69-E073F9CB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513-DFAD-4C70-868F-E0796B3D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D91-8409-48DA-9D9B-8F998F60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9E8-8146-4B89-9CA2-8F5C81E9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E8C-2BCD-477E-A11C-2388076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4D3-D66F-4081-AD7E-F4742498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1CFC-9271-4943-8EEA-372B3BDFA4C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59280" y="1628640"/>
            <a:ext cx="31892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mp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solar_tent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79280" y="333360"/>
            <a:ext cx="1944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tent. Its used to give you shelter when you are camping out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ere are all sorts of shapes and sizes of 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100_3328_1aw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0" y="1125360"/>
            <a:ext cx="212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ravan. These are towed by cars they are normally small but sometimes they can be very big. Inside of them they have things that a house would have but sma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campfire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324000" y="404640"/>
            <a:ext cx="136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mp fire it’s a great thing to have while you are camping because they keep you warm at night and you can cook things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lick to zoom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250920" y="692280"/>
            <a:ext cx="144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sleeping bag they keep you warm and they are just like a Donna but they wrap around your whole body they are great for c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96840" y="30240"/>
            <a:ext cx="9247320" cy="1847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14200" y="1857240"/>
            <a:ext cx="857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Bradley Hand ITC"/>
              </a:rPr>
              <a:t>All these things help to keep you safe when you are camping and help the environment which helps everyon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0:03:22Z</dcterms:created>
  <dc:creator>student</dc:creator>
  <dc:description/>
  <dc:language>en-US</dc:language>
  <cp:lastModifiedBy> </cp:lastModifiedBy>
  <dcterms:modified xsi:type="dcterms:W3CDTF">2010-06-10T02:37:08Z</dcterms:modified>
  <cp:revision>3</cp:revision>
  <dc:subject/>
  <dc:title>Slide 1</dc:title>
</cp:coreProperties>
</file>