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221-BF21-480C-B0FE-318CEAE2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A98-3434-4E4A-8DA4-57F3AB1B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51E-1009-4A60-A29B-B90BFD47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0C7-0C93-43FD-AA3C-64145E10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696-E371-46B6-BB59-576882F9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318-5D80-4B74-B8BD-97D00EE2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5D6-39F8-419E-B950-9928B521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1D1-156A-4740-8E26-A345FAEC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CE0-2F92-4EED-B77F-0C554459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207-41DC-4678-9B48-5B288B10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ACA-D88A-4544-8FA7-AFD3908E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85F-39B4-4B2A-98B5-46E5ECF4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9636-7C68-42A2-96AF-DE9C1889FE5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59280" y="1628640"/>
            <a:ext cx="318924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mp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solar_tent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79280" y="333360"/>
            <a:ext cx="1944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tent. Its used to give you shelter when you are camping out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ere are all sorts of shapes and sizes of 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100_3328_1aw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0" y="1125360"/>
            <a:ext cx="212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caravan. These are towed by cars they are normally small but sometimes they can be very big. Inside of them they have things that a house would have but sma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campfire"/>
          <p:cNvPicPr/>
          <p:nvPr/>
        </p:nvPicPr>
        <p:blipFill>
          <a:blip r:embed="rId1"/>
          <a:stretch/>
        </p:blipFill>
        <p:spPr>
          <a:xfrm>
            <a:off x="190800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324000" y="404640"/>
            <a:ext cx="136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camp fire it’s a great thing to have while you are camping because they keep you warm at night and you can cook things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lick to zoom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250920" y="692280"/>
            <a:ext cx="144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sleeping bag they keep you warm and they are just like a Donna but they wrap around your whole body they are great for c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-96840" y="30240"/>
            <a:ext cx="9247320" cy="1847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14200" y="1857240"/>
            <a:ext cx="8572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0000"/>
                </a:solidFill>
                <a:latin typeface="Bradley Hand ITC"/>
              </a:rPr>
              <a:t>All these things help to keep you safe when you are camping and help the environment which helps everyon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0:03:22Z</dcterms:created>
  <dc:creator>student</dc:creator>
  <dc:description/>
  <dc:language>en-US</dc:language>
  <cp:lastModifiedBy> </cp:lastModifiedBy>
  <dcterms:modified xsi:type="dcterms:W3CDTF">2010-06-10T02:37:08Z</dcterms:modified>
  <cp:revision>3</cp:revision>
  <dc:subject/>
  <dc:title>Slide 1</dc:title>
</cp:coreProperties>
</file>